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71CC-47EE-4F3A-B441-0A993292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0CC-5D20-4769-AB8A-1C51CC30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FF40-21FB-45E9-B656-85DAE39F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BD7-6307-4A1F-A54B-5FC54520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448-5C90-49BE-A4F6-903B1223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81F-C9C3-4925-A88F-6EFF53CC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139-648A-4BB3-AEDB-AA4D4575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C19-760F-4E70-B144-440E7DD2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66C2-14A5-49CA-92C9-41D18607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1DF-D2C6-4F86-A446-2B74C99A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225-DB74-42C5-9909-91EEE750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D8C3-3873-4ACA-8708-EC6DAF57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C0BF-CDB4-419A-B70C-4B3548EF7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6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Large Sample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hi Square Test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or RR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in Cohort Stud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93432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43000" y="3003480"/>
            <a:ext cx="693432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162920" cy="92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7162920" cy="1085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066680" y="3035160"/>
            <a:ext cx="716292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162920" cy="920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7162920" cy="109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90720" y="3200400"/>
            <a:ext cx="7162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162920" cy="920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066680" y="2997360"/>
            <a:ext cx="7162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4800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752480" y="-476280"/>
            <a:ext cx="4851360" cy="952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5715000"/>
            <a:ext cx="7086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One way  to compute P-value:   Use Z distrib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162920" cy="3962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62120" y="5181480"/>
            <a:ext cx="746748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Another way to compute P value: Divide the area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right tail of the chi square distribution in ha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315200" cy="3352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91320" y="4038480"/>
            <a:ext cx="18288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3390840"/>
            <a:ext cx="7315200" cy="876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31520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7315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315200" cy="2971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14400" y="3505320"/>
            <a:ext cx="7315200" cy="838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838080" y="4495680"/>
            <a:ext cx="73152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486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29400" y="2895480"/>
            <a:ext cx="555480" cy="609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629400" y="525780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629400" y="5181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72560" y="5348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467480" y="5257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391520" y="51055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81680" y="5410080"/>
            <a:ext cx="16765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16256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352680" cy="3733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219320" y="320040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201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562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791320" y="304812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hould be significant because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9600" y="449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daff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62520" y="3733920"/>
            <a:ext cx="198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 Sided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914400"/>
            <a:ext cx="4572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t there is a problem 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3657600"/>
            <a:ext cx="220968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5105520"/>
            <a:ext cx="778824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Large values of a chi square statistic that might indicat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significant result can occur from either large positive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large negative values of the normal statis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13:12:04Z</dcterms:modified>
  <cp:revision>43</cp:revision>
  <dc:subject/>
  <dc:title>PowerPoint Presentation</dc:title>
</cp:coreProperties>
</file>